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D32-475E-4E5F-9BE1-B55EDC47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689-D91D-468B-95A0-DA7F5F0C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EC2-3E4F-485D-8257-A4E81852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C3F-9D80-4889-BEFF-125205A2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C66-E9E1-4DF5-B6B1-9E668039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CF3-B1BE-4DD6-86D1-87208906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FC2-FA15-4579-BBD6-7327D76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FAD-8685-476A-B3AE-F8753C9F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89D-9ADC-4685-98A9-37CB2B9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2B8-E11A-4A6C-B837-AEABADF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EFC-7DE2-40CE-A9FC-FE01FD9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839-1CAA-4A0A-B6B0-09CE3DC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6950-0E19-40A5-9BA1-0AF0E8084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2 Dnes teba,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 teba, Otče na nebi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cem chváliť, piesňou veleb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ten pamätný deň stvor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red tebou skláňam kol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zácny nám je tento deň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žiadn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úzk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ar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i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ýhľad viery nekry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Bohu chvála v srdci z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tvojho Slova pravdy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estu svieti,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y iste k cieľu d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tvár raz tvoju uzri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yplní sa túžob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ála radosť, večný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pasiteľ nás priví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á nám veniec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37:48Z</dcterms:modified>
  <cp:revision>22</cp:revision>
  <dc:subject/>
  <dc:title>Je veľký náš Pán, on slávy je Kráľ Nech do všetkých strán  spev vrúcnych znie chvál.</dc:title>
</cp:coreProperties>
</file>